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763D-72EB-4E15-BE46-E38E3D20A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0727-78D2-4386-AC0B-E65E3D29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FFFE-BD95-46AC-B85B-DDA20A0A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2D9A-3F6A-4277-8637-B6DBA3B6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9CC5-DFE2-457D-90E1-29890147C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1DFA-41FB-4FA9-8A9A-E34FA643C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290C-E05C-4374-9C4B-C3C4DEFF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10BA-EE0C-4697-B4DA-6AFFB6CE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E0D-6E7A-4DBA-B93E-CB78A7E9D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7C0-2A37-42B3-B174-CFC6BB38D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1410-17B2-461E-B144-41F658AF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F5A-8FC4-4E95-80DF-39BA34D1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09FB-2634-43E9-A59B-F01C6BFE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ECE-454F-4790-9221-16E331D69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81D-4972-4762-950B-F9D3E27A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833-90E9-4682-A678-F6CA59EA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2F9-B1AD-4A2A-AB2D-C5E5A156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CFA-E566-412C-B33F-9DBA667D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E700-4FB1-4B1E-B691-9B5E35D5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3804-9D3B-4108-99CB-3C15C535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DDA9-B12E-43BA-B983-DD5B8601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32AA-78C7-427B-9812-7780A776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A83C-00F6-4D1B-B5D3-53CD5A6D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AFC4-DF49-44D9-97B4-8859BB00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9733-59EB-46E5-8567-3B253676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467-1A90-4609-9080-8C4E0E74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2DE5-9385-4392-9A5E-806EAD1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BEA1-0817-4C7E-8890-FAE7376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2654-E76F-481E-9B91-51C45EE2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B480-79D6-4E40-8F5C-A30BA239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DECB-167C-4289-8332-3FD3C2F2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35C-D1AB-434F-A8A2-655B37B3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85E-A093-45F8-83AF-CFBCD68F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0C8B-5D26-427B-BF2A-9FAD19A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593-A9CB-491F-879A-EB67229F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6B7-8FE2-4A9F-A745-114F7A84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DA0-1C57-486D-917C-03195110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BBA-7414-4663-8B23-F26E9524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99C9-6309-4887-B0FD-6B873CBA8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0765-4145-4895-A991-104A75A8A16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rgit De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ersite vhlcentr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ta Higher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g m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options and pr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 and WebS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 Pl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ersite Plus and WebS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se-leaf or no text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SAM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in vhlcentr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new concep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new vocabulary and grammar in structured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Pronun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cultural texts with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ch cultural video and answer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vocabulary and grammar in interactive exercises and with free respon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new concepts in communicative, unscripted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lended Learning (continued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class (continued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marize cul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 (better: proctored outside classroo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vocabulary and grammar concepts in all types of workbook and lab manual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-chat, if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for quizz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ne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boo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nch: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Vis-à-v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man: Kontak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alian: Ava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nish: Tu mundo (new version of dos mun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chas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ways e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BLM activities op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nect Learnsma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practice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vers different aspects of each chap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ssignment is done correctly, it disappears out of question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self-ass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practice where they need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course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iew textbook and all ancill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rial account for online material and try it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components and price of course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classes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 to use the online platform, get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sure online platform works in your school or on your camp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up course and prepare student login ma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your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patient when real or perceived software problems occ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What is i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se material has been made available 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xt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 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rning T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tools for today’s digit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ch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o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ive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lin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or T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tools for today’s digit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Reposi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ments with due 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ebo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grading exerci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ible student wri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vanta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or wro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feel comfortable with online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nd a lot of time with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rn with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ct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Qu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fferent textboo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ao - Cengage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utsch heute - Cengage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used as online workbook/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book and lab manual simply put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c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use and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ex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eb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ntr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Graw-H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s mun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a at 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a embedded in Cent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o offers ex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shbo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tor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ntro Course Se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receives book key from publ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creates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creates 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or generates cours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creates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enters cours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enters book key after purchasing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nline Course Platforms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entro Assign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ice of textbook or workbook/lab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-g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or-gra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re and ke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00:52:50Z</dcterms:created>
  <dc:creator>Information Technology Services</dc:creator>
  <dc:description/>
  <dc:language>en-US</dc:language>
  <cp:lastModifiedBy>bdeir9</cp:lastModifiedBy>
  <dcterms:modified xsi:type="dcterms:W3CDTF">2014-03-07T19:21:34Z</dcterms:modified>
  <cp:revision>286</cp:revision>
  <dc:subject/>
  <dc:title>Slide 1</dc:title>
</cp:coreProperties>
</file>